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D3CE-196C-4E78-8E49-63EB2F363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A5AE-C4D5-43D7-9744-B1BF1DAB7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A28-2D19-4DFE-B216-1A65FEA9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7EE-664E-410F-ABA2-A24647B2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71E-6790-4E34-A723-284FC892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048-BFE0-4610-BCE9-9B78C8EC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8A0B-2001-4D96-878D-9ECF169E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A5E1-F02C-4372-8917-74F34BE3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4DA5-EC8F-4812-B676-49EDE00D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5351-BC32-42CC-933D-464C354B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1860-0823-42FF-98C7-1C184BCA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3C65-E830-48EE-981D-BFF71D57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9353-C20F-494F-B3DC-836114D1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FF8-AE18-4CA8-9785-A94AB3CF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AAB3-98B7-4679-A32E-E92C365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AE04-B53D-4BA6-B08A-A533B686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EBC6-E632-4129-A859-14F8C673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1CE5-D597-4F66-A174-FE5AF12B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AD3E-85E1-432C-9744-446E98D4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5DE8-6A58-4684-A554-DFCF1D43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9BD8-0C90-414B-9EEE-BC1CE2B5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7892-797A-498E-ADCB-262A0E70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B755-D24C-4718-898E-A6603C80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CBA7-837E-4E01-B077-64657EA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E61-0829-4151-9C94-17888EA9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039D-A017-427F-9FB3-6AC0212E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A42C-6FC4-4B32-90FA-4981EDBA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1756-FBF9-4B2C-9A29-62C1279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89CD-D427-43A8-A287-2AC91902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0C59-4048-4AAA-BD29-50B62E39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EB09-4B95-42CC-AAC9-D709FF81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7159-AEB3-4DAB-B47A-3587551E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7AF-6CF6-4FB6-A137-2A1EA23D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87A-5722-4AA8-98D8-F23E387A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B08-66F0-49AD-9BEB-61035EFE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028-3447-4344-A1CA-EF795038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26D-F518-4765-A2D9-5CB6888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9F2-61CC-4104-973E-166B5C84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49CC-4392-4A98-A1C3-747A39FBC9C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B6DF-FF27-43DC-9323-339DDAF3F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B59D-1C3B-4D87-92DA-E27926E38AE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C814-C980-4DB1-A0AE-BF2BCB12E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33BF-9ED5-495E-976A-245A6919EA6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2E16-576B-4BBD-9D9D-E7605C673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368360" y="2322360"/>
            <a:ext cx="770904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DISCUSSION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Mastura Is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ant Family Medicine Specia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nik Kesihatan Seremban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Lili Zuryani Marmu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Medicine Specia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nik Kesihatan Gunung Rap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428760" y="1339920"/>
            <a:ext cx="113346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indent="-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other issues that you need to discuss with the pati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hieve glycaemic targ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e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ate supple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 boo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style mod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ounded Rectangle 7"/>
          <p:cNvSpPr/>
          <p:nvPr/>
        </p:nvSpPr>
        <p:spPr>
          <a:xfrm>
            <a:off x="220680" y="2860560"/>
            <a:ext cx="8513640" cy="331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7648560" y="382284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76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9557-0141-4332-81E0-FFA1E2EB8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7080" y="1509840"/>
          <a:ext cx="11887200" cy="3105000"/>
        </p:xfrm>
        <a:graphic>
          <a:graphicData uri="http://schemas.openxmlformats.org/drawingml/2006/table">
            <a:tbl>
              <a:tblPr/>
              <a:tblGrid>
                <a:gridCol w="11887200"/>
              </a:tblGrid>
              <a:tr h="3105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is very keen to get pregnant and willing to go on MDI.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lin treatment was initiated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7030a0"/>
                      </a:solidFill>
                    </a:lnT>
                    <a:lnB w="280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21BE-CEE8-434E-A91D-C4C5B80D5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428760" y="1339920"/>
            <a:ext cx="1133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indent="-2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ould you monitor patient’s glucose leve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pre-meals glucos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pre- and post-meals glucos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post-meals glucos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fasting glucos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ounded Rectangle 7"/>
          <p:cNvSpPr/>
          <p:nvPr/>
        </p:nvSpPr>
        <p:spPr>
          <a:xfrm>
            <a:off x="428760" y="3232080"/>
            <a:ext cx="9604080" cy="5907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9437760" y="3262320"/>
            <a:ext cx="30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nswer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5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A672-639D-4A13-B19A-A13EBD560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eep HbA1c &lt;6.5% to ensure a good out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t is important to review medications and diabetes compl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AD and insulin can be used to achieve good glycaemic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messag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9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A073-27A3-4584-8AC3-77C525245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3428-F52D-4A41-8254-4AA3141C9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F796-9C5D-42E0-AFC3-95907B647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8 years old l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rried with 3 boys aged 13, 9 and 6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M for past 4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rrently on T. glicazide 160 mg BD, T. metformin 1000 mg BD and T. simvastatin 10 mg 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s to get preg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0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3205-CA74-4621-AEF8-A65C4C618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353880" y="1352520"/>
            <a:ext cx="11588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to predict the pregnancy outcome for this patient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B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bA1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GT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4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C076-0EA4-4290-911F-C6E4A11F6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8600" y="1355760"/>
            <a:ext cx="115477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plan for pregnanc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i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bA1c &lt;6.5% (48 mmol/mo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if achievable without causing hypoglycaem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bA1c level &gt;10% (86 mmol/mol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 algn="just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ot advised to get pregna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cause of the associated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5"/>
          <p:cNvSpPr/>
          <p:nvPr/>
        </p:nvSpPr>
        <p:spPr>
          <a:xfrm>
            <a:off x="4038480" y="649764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en with pre-existing diabetes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1879-5A4A-4B30-994D-FA4B3B73D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09680" y="341280"/>
            <a:ext cx="11225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 1. </a:t>
            </a:r>
            <a:r>
              <a:rPr b="1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Which is the BEST test to predict the pregnancy outcome for this pati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B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bA1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G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-7920" y="4278240"/>
          <a:ext cx="12200040" cy="682560"/>
        </p:xfrm>
        <a:graphic>
          <a:graphicData uri="http://schemas.openxmlformats.org/drawingml/2006/table">
            <a:tbl>
              <a:tblPr/>
              <a:tblGrid>
                <a:gridCol w="12200040"/>
              </a:tblGrid>
              <a:tr h="682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swer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4"/>
          <p:cNvSpPr/>
          <p:nvPr/>
        </p:nvSpPr>
        <p:spPr>
          <a:xfrm>
            <a:off x="3619440" y="5294160"/>
            <a:ext cx="4476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.  HbA1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0C67-92B2-4C7B-B31B-56B704A3D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53880" y="1352520"/>
            <a:ext cx="11588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other assessments to be done before pregnancy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0" y="3198960"/>
          <a:ext cx="12200040" cy="761760"/>
        </p:xfrm>
        <a:graphic>
          <a:graphicData uri="http://schemas.openxmlformats.org/drawingml/2006/table">
            <a:tbl>
              <a:tblPr/>
              <a:tblGrid>
                <a:gridCol w="12200040"/>
              </a:tblGrid>
              <a:tr h="761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swer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7"/>
          <p:cNvSpPr/>
          <p:nvPr/>
        </p:nvSpPr>
        <p:spPr>
          <a:xfrm>
            <a:off x="353880" y="4173480"/>
            <a:ext cx="11588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cations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ssment of diabetes compl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00AC-64DA-4CD6-B767-134FD7433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7640" y="579600"/>
          <a:ext cx="12160080" cy="2651040"/>
        </p:xfrm>
        <a:graphic>
          <a:graphicData uri="http://schemas.openxmlformats.org/drawingml/2006/table">
            <a:tbl>
              <a:tblPr/>
              <a:tblGrid>
                <a:gridCol w="6080040"/>
                <a:gridCol w="608004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71680" indent="-398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pres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/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examina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allor/jaund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 unremark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1680" y="3605040"/>
          <a:ext cx="12160440" cy="914400"/>
        </p:xfrm>
        <a:graphic>
          <a:graphicData uri="http://schemas.openxmlformats.org/drawingml/2006/table">
            <a:tbl>
              <a:tblPr/>
              <a:tblGrid>
                <a:gridCol w="6080040"/>
                <a:gridCol w="608040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marL="438120" indent="-342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A1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6A81-8EB7-452D-896F-80E58A37B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428760" y="1339920"/>
            <a:ext cx="11334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indent="-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your next step in managing this pati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 her current med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ice on lifestyle mod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asal insul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another O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 OAD and start M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67" name="Rounded Rectangle 7"/>
          <p:cNvSpPr/>
          <p:nvPr/>
        </p:nvSpPr>
        <p:spPr>
          <a:xfrm>
            <a:off x="184320" y="3048120"/>
            <a:ext cx="8513640" cy="1253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7648560" y="382284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ounded Rectangle 6"/>
          <p:cNvSpPr/>
          <p:nvPr/>
        </p:nvSpPr>
        <p:spPr>
          <a:xfrm>
            <a:off x="184320" y="4876920"/>
            <a:ext cx="8513640" cy="6271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D225-F98D-4B78-940D-214D7E642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6:11:03Z</dcterms:created>
  <dc:creator>Norasyikin A Wahab</dc:creator>
  <dc:description/>
  <dc:language>en-US</dc:language>
  <cp:lastModifiedBy>Ainol</cp:lastModifiedBy>
  <dcterms:modified xsi:type="dcterms:W3CDTF">2018-07-19T04:40:30Z</dcterms:modified>
  <cp:revision>108</cp:revision>
  <dc:subject/>
  <dc:title>Case study</dc:title>
</cp:coreProperties>
</file>